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21C-E652-429D-A302-96EA8E5C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A90-E369-4E21-BD55-78BD7FDE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D06-28D6-4DE6-AE82-2A56CFDE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327-43BA-4C61-A4C7-197343BB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E22-9B95-4121-9754-32F034B4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4AE-3202-467F-AD8D-B399080D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016-5A45-46C6-B9FF-D759D17E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BF9-1224-4C88-9634-E8A07253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890-003E-4BEB-9D33-A65DED8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A56-914D-4F25-BECA-D43BC43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989-E007-4779-8A4B-B86B4852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108-0BF5-43D7-B4FA-ED3B79B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234-944E-435C-9B11-F7AF60B40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26668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2666880"/>
            <a:ext cx="30456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6668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666880"/>
            <a:ext cx="30492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3276720"/>
            <a:ext cx="30456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276720"/>
            <a:ext cx="304920" cy="304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7160" y="480060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ksi jonoa ja normaalit juoks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4804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0160" y="30099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3404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6160" y="30099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300996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09680"/>
            <a:ext cx="7950240" cy="685800"/>
          </a:xfrm>
          <a:custGeom>
            <a:avLst/>
            <a:gdLst/>
            <a:ahLst/>
            <a:rect l="l" t="t" r="r" b="b"/>
            <a:pathLst>
              <a:path w="5008" h="384">
                <a:moveTo>
                  <a:pt x="1704" y="336"/>
                </a:moveTo>
                <a:cubicBezTo>
                  <a:pt x="3076" y="360"/>
                  <a:pt x="4448" y="384"/>
                  <a:pt x="4728" y="336"/>
                </a:cubicBezTo>
                <a:cubicBezTo>
                  <a:pt x="5008" y="288"/>
                  <a:pt x="4096" y="96"/>
                  <a:pt x="3384" y="48"/>
                </a:cubicBezTo>
                <a:cubicBezTo>
                  <a:pt x="2672" y="0"/>
                  <a:pt x="912" y="0"/>
                  <a:pt x="456" y="48"/>
                </a:cubicBezTo>
                <a:cubicBezTo>
                  <a:pt x="0" y="96"/>
                  <a:pt x="324" y="216"/>
                  <a:pt x="648" y="33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3301920"/>
            <a:ext cx="7632720" cy="736560"/>
          </a:xfrm>
          <a:custGeom>
            <a:avLst/>
            <a:gdLst/>
            <a:ahLst/>
            <a:rect l="l" t="t" r="r" b="b"/>
            <a:pathLst>
              <a:path w="4808" h="592">
                <a:moveTo>
                  <a:pt x="1560" y="80"/>
                </a:moveTo>
                <a:cubicBezTo>
                  <a:pt x="2960" y="40"/>
                  <a:pt x="4360" y="0"/>
                  <a:pt x="4584" y="80"/>
                </a:cubicBezTo>
                <a:cubicBezTo>
                  <a:pt x="4808" y="160"/>
                  <a:pt x="3600" y="528"/>
                  <a:pt x="2904" y="560"/>
                </a:cubicBezTo>
                <a:cubicBezTo>
                  <a:pt x="2208" y="592"/>
                  <a:pt x="816" y="352"/>
                  <a:pt x="408" y="272"/>
                </a:cubicBezTo>
                <a:cubicBezTo>
                  <a:pt x="0" y="192"/>
                  <a:pt x="228" y="136"/>
                  <a:pt x="456" y="8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2438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4382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190512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2448" y="240"/>
                </a:moveTo>
                <a:cubicBezTo>
                  <a:pt x="1956" y="120"/>
                  <a:pt x="1464" y="0"/>
                  <a:pt x="1056" y="0"/>
                </a:cubicBezTo>
                <a:cubicBezTo>
                  <a:pt x="648" y="0"/>
                  <a:pt x="136" y="240"/>
                  <a:pt x="0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712400">
            <a:off x="1828440" y="2894760"/>
            <a:ext cx="3886200" cy="38124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2448" y="240"/>
                </a:moveTo>
                <a:cubicBezTo>
                  <a:pt x="1956" y="120"/>
                  <a:pt x="1464" y="0"/>
                  <a:pt x="1056" y="0"/>
                </a:cubicBezTo>
                <a:cubicBezTo>
                  <a:pt x="648" y="0"/>
                  <a:pt x="136" y="240"/>
                  <a:pt x="0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133720"/>
            <a:ext cx="3822840" cy="850680"/>
          </a:xfrm>
          <a:custGeom>
            <a:avLst/>
            <a:gdLst/>
            <a:ahLst/>
            <a:rect l="l" t="t" r="r" b="b"/>
            <a:pathLst>
              <a:path w="2408" h="536">
                <a:moveTo>
                  <a:pt x="0" y="192"/>
                </a:moveTo>
                <a:cubicBezTo>
                  <a:pt x="388" y="96"/>
                  <a:pt x="776" y="0"/>
                  <a:pt x="1152" y="0"/>
                </a:cubicBezTo>
                <a:cubicBezTo>
                  <a:pt x="1528" y="0"/>
                  <a:pt x="2104" y="128"/>
                  <a:pt x="2256" y="192"/>
                </a:cubicBezTo>
                <a:cubicBezTo>
                  <a:pt x="2408" y="256"/>
                  <a:pt x="2240" y="328"/>
                  <a:pt x="2064" y="384"/>
                </a:cubicBezTo>
                <a:cubicBezTo>
                  <a:pt x="1888" y="440"/>
                  <a:pt x="1536" y="536"/>
                  <a:pt x="1200" y="528"/>
                </a:cubicBezTo>
                <a:cubicBezTo>
                  <a:pt x="864" y="520"/>
                  <a:pt x="232" y="368"/>
                  <a:pt x="48" y="33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286000"/>
            <a:ext cx="457200" cy="5335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362320"/>
            <a:ext cx="457200" cy="53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2800" y="419112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kee pallon A:n jala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3160" y="47242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B syöttää pallon A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3160" y="525780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syöttää pallon B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6440" y="2031840"/>
            <a:ext cx="1041480" cy="1194120"/>
          </a:xfrm>
          <a:custGeom>
            <a:avLst/>
            <a:gdLst/>
            <a:ahLst/>
            <a:rect l="l" t="t" r="r" b="b"/>
            <a:pathLst>
              <a:path w="656" h="752">
                <a:moveTo>
                  <a:pt x="608" y="160"/>
                </a:moveTo>
                <a:cubicBezTo>
                  <a:pt x="532" y="80"/>
                  <a:pt x="456" y="0"/>
                  <a:pt x="368" y="16"/>
                </a:cubicBezTo>
                <a:cubicBezTo>
                  <a:pt x="280" y="32"/>
                  <a:pt x="136" y="176"/>
                  <a:pt x="80" y="256"/>
                </a:cubicBezTo>
                <a:cubicBezTo>
                  <a:pt x="24" y="336"/>
                  <a:pt x="0" y="416"/>
                  <a:pt x="32" y="496"/>
                </a:cubicBezTo>
                <a:cubicBezTo>
                  <a:pt x="64" y="576"/>
                  <a:pt x="168" y="720"/>
                  <a:pt x="272" y="736"/>
                </a:cubicBezTo>
                <a:cubicBezTo>
                  <a:pt x="376" y="752"/>
                  <a:pt x="516" y="672"/>
                  <a:pt x="656" y="59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3520" y="37339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kiertää ka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791320" y="3048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2743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2895480"/>
            <a:ext cx="457200" cy="5335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743200"/>
            <a:ext cx="45720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447920"/>
            <a:ext cx="457200" cy="5331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10666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1720" y="411480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syöttää pallon B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3276720"/>
            <a:ext cx="2819520" cy="228600"/>
          </a:xfrm>
          <a:custGeom>
            <a:avLst/>
            <a:gdLst/>
            <a:ahLst/>
            <a:rect l="l" t="t" r="r" b="b"/>
            <a:pathLst>
              <a:path w="1680" h="96">
                <a:moveTo>
                  <a:pt x="0" y="0"/>
                </a:moveTo>
                <a:cubicBezTo>
                  <a:pt x="292" y="48"/>
                  <a:pt x="584" y="96"/>
                  <a:pt x="864" y="96"/>
                </a:cubicBezTo>
                <a:cubicBezTo>
                  <a:pt x="1144" y="96"/>
                  <a:pt x="1568" y="88"/>
                  <a:pt x="168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676520"/>
            <a:ext cx="1447920" cy="99036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800" y="328"/>
                  <a:pt x="640" y="176"/>
                  <a:pt x="480" y="96"/>
                </a:cubicBezTo>
                <a:cubicBezTo>
                  <a:pt x="320" y="16"/>
                  <a:pt x="160" y="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1720" y="44956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B syöttää pallon C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609480"/>
            <a:ext cx="3276720" cy="1981440"/>
          </a:xfrm>
          <a:custGeom>
            <a:avLst/>
            <a:gdLst/>
            <a:ahLst/>
            <a:rect l="l" t="t" r="r" b="b"/>
            <a:pathLst>
              <a:path w="2064" h="1248">
                <a:moveTo>
                  <a:pt x="2064" y="1248"/>
                </a:moveTo>
                <a:cubicBezTo>
                  <a:pt x="1916" y="916"/>
                  <a:pt x="1768" y="584"/>
                  <a:pt x="1536" y="384"/>
                </a:cubicBezTo>
                <a:cubicBezTo>
                  <a:pt x="1304" y="184"/>
                  <a:pt x="928" y="0"/>
                  <a:pt x="672" y="48"/>
                </a:cubicBezTo>
                <a:cubicBezTo>
                  <a:pt x="416" y="96"/>
                  <a:pt x="208" y="384"/>
                  <a:pt x="0" y="6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1720" y="480060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kiertää juosten C: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057400"/>
            <a:ext cx="533520" cy="609480"/>
          </a:xfrm>
          <a:custGeom>
            <a:avLst/>
            <a:gdLst/>
            <a:ahLst/>
            <a:rect l="l" t="t" r="r" b="b"/>
            <a:pathLst>
              <a:path w="512" h="432">
                <a:moveTo>
                  <a:pt x="480" y="0"/>
                </a:moveTo>
                <a:cubicBezTo>
                  <a:pt x="496" y="108"/>
                  <a:pt x="512" y="216"/>
                  <a:pt x="432" y="288"/>
                </a:cubicBezTo>
                <a:cubicBezTo>
                  <a:pt x="352" y="360"/>
                  <a:pt x="80" y="416"/>
                  <a:pt x="0" y="43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192"/>
                </a:moveTo>
                <a:cubicBezTo>
                  <a:pt x="60" y="184"/>
                  <a:pt x="120" y="176"/>
                  <a:pt x="192" y="144"/>
                </a:cubicBezTo>
                <a:cubicBezTo>
                  <a:pt x="264" y="112"/>
                  <a:pt x="348" y="56"/>
                  <a:pt x="432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1905120"/>
            <a:ext cx="609840" cy="76176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384" y="480"/>
                </a:moveTo>
                <a:cubicBezTo>
                  <a:pt x="272" y="400"/>
                  <a:pt x="160" y="320"/>
                  <a:pt x="96" y="240"/>
                </a:cubicBezTo>
                <a:cubicBezTo>
                  <a:pt x="32" y="160"/>
                  <a:pt x="16" y="8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6680" y="510552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C syöttää pallon A:lle (joka tulee vasta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080" y="54100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jatkaa pallon B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6680" y="571500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 jatkaa juoksua 3:lle, B 1:lle ja C juoksee 2: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057400"/>
            <a:ext cx="622440" cy="685800"/>
          </a:xfrm>
          <a:custGeom>
            <a:avLst/>
            <a:gdLst/>
            <a:ahLst/>
            <a:rect l="l" t="t" r="r" b="b"/>
            <a:pathLst>
              <a:path w="392" h="432">
                <a:moveTo>
                  <a:pt x="0" y="432"/>
                </a:moveTo>
                <a:cubicBezTo>
                  <a:pt x="140" y="420"/>
                  <a:pt x="280" y="408"/>
                  <a:pt x="336" y="336"/>
                </a:cubicBezTo>
                <a:cubicBezTo>
                  <a:pt x="392" y="264"/>
                  <a:pt x="364" y="132"/>
                  <a:pt x="33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828800"/>
            <a:ext cx="685800" cy="914400"/>
          </a:xfrm>
          <a:custGeom>
            <a:avLst/>
            <a:gdLst/>
            <a:ahLst/>
            <a:rect l="l" t="t" r="r" b="b"/>
            <a:pathLst>
              <a:path w="432" h="576">
                <a:moveTo>
                  <a:pt x="432" y="0"/>
                </a:moveTo>
                <a:cubicBezTo>
                  <a:pt x="300" y="72"/>
                  <a:pt x="168" y="144"/>
                  <a:pt x="96" y="240"/>
                </a:cubicBezTo>
                <a:cubicBezTo>
                  <a:pt x="24" y="336"/>
                  <a:pt x="8" y="504"/>
                  <a:pt x="0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981080"/>
            <a:ext cx="1295640" cy="99072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0" y="0"/>
                </a:moveTo>
                <a:cubicBezTo>
                  <a:pt x="124" y="164"/>
                  <a:pt x="248" y="328"/>
                  <a:pt x="384" y="432"/>
                </a:cubicBezTo>
                <a:cubicBezTo>
                  <a:pt x="520" y="536"/>
                  <a:pt x="668" y="580"/>
                  <a:pt x="816" y="624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50920" y="1828800"/>
            <a:ext cx="485784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0" y="1447920"/>
            <a:ext cx="18003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3040" y="4114800"/>
            <a:ext cx="304920" cy="3049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2720" y="4267080"/>
            <a:ext cx="304920" cy="30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4038480"/>
            <a:ext cx="304920" cy="3049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133720"/>
            <a:ext cx="457200" cy="190476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1008"/>
                </a:moveTo>
                <a:cubicBezTo>
                  <a:pt x="236" y="876"/>
                  <a:pt x="232" y="744"/>
                  <a:pt x="192" y="576"/>
                </a:cubicBezTo>
                <a:cubicBezTo>
                  <a:pt x="152" y="408"/>
                  <a:pt x="32" y="88"/>
                  <a:pt x="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1320" y="1981080"/>
            <a:ext cx="1225800" cy="2133720"/>
          </a:xfrm>
          <a:custGeom>
            <a:avLst/>
            <a:gdLst/>
            <a:ahLst/>
            <a:rect l="l" t="t" r="r" b="b"/>
            <a:pathLst>
              <a:path w="576" h="1152">
                <a:moveTo>
                  <a:pt x="0" y="1152"/>
                </a:moveTo>
                <a:cubicBezTo>
                  <a:pt x="72" y="912"/>
                  <a:pt x="144" y="672"/>
                  <a:pt x="240" y="480"/>
                </a:cubicBezTo>
                <a:cubicBezTo>
                  <a:pt x="336" y="288"/>
                  <a:pt x="504" y="96"/>
                  <a:pt x="57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352680"/>
            <a:ext cx="603360" cy="838440"/>
          </a:xfrm>
          <a:custGeom>
            <a:avLst/>
            <a:gdLst/>
            <a:ahLst/>
            <a:rect l="l" t="t" r="r" b="b"/>
            <a:pathLst>
              <a:path w="968" h="960">
                <a:moveTo>
                  <a:pt x="968" y="960"/>
                </a:moveTo>
                <a:cubicBezTo>
                  <a:pt x="636" y="800"/>
                  <a:pt x="304" y="640"/>
                  <a:pt x="152" y="480"/>
                </a:cubicBezTo>
                <a:cubicBezTo>
                  <a:pt x="0" y="320"/>
                  <a:pt x="72" y="96"/>
                  <a:pt x="56" y="0"/>
                </a:cubicBezTo>
              </a:path>
            </a:pathLst>
          </a:custGeom>
          <a:noFill/>
          <a:ln w="255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095560"/>
            <a:ext cx="228600" cy="1143000"/>
          </a:xfrm>
          <a:custGeom>
            <a:avLst/>
            <a:gdLst/>
            <a:ahLst/>
            <a:rect l="l" t="t" r="r" b="b"/>
            <a:pathLst>
              <a:path w="1920" h="616">
                <a:moveTo>
                  <a:pt x="1920" y="40"/>
                </a:moveTo>
                <a:cubicBezTo>
                  <a:pt x="1716" y="20"/>
                  <a:pt x="1512" y="0"/>
                  <a:pt x="1248" y="40"/>
                </a:cubicBezTo>
                <a:cubicBezTo>
                  <a:pt x="984" y="80"/>
                  <a:pt x="544" y="184"/>
                  <a:pt x="336" y="280"/>
                </a:cubicBezTo>
                <a:cubicBezTo>
                  <a:pt x="128" y="376"/>
                  <a:pt x="64" y="496"/>
                  <a:pt x="0" y="6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9360" y="3200400"/>
            <a:ext cx="457200" cy="83808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0" y="528"/>
                </a:moveTo>
                <a:cubicBezTo>
                  <a:pt x="0" y="404"/>
                  <a:pt x="0" y="280"/>
                  <a:pt x="48" y="192"/>
                </a:cubicBezTo>
                <a:cubicBezTo>
                  <a:pt x="96" y="104"/>
                  <a:pt x="192" y="52"/>
                  <a:pt x="288" y="0"/>
                </a:cubicBezTo>
              </a:path>
            </a:pathLst>
          </a:custGeom>
          <a:noFill/>
          <a:ln w="255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05320" y="2057400"/>
            <a:ext cx="457200" cy="9907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404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 heittää tyhjään tila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48000" y="228600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 hakee pal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44400" y="259092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 siirtyy pelattavak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7640" y="28954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B syöttää A: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3800" y="358128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 siirtyy ja tekee maa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997360"/>
            <a:ext cx="2743200" cy="355320"/>
          </a:xfrm>
          <a:custGeom>
            <a:avLst/>
            <a:gdLst/>
            <a:ahLst/>
            <a:rect l="l" t="t" r="r" b="b"/>
            <a:pathLst>
              <a:path w="1728" h="224">
                <a:moveTo>
                  <a:pt x="1728" y="224"/>
                </a:moveTo>
                <a:cubicBezTo>
                  <a:pt x="1500" y="144"/>
                  <a:pt x="1272" y="64"/>
                  <a:pt x="1056" y="32"/>
                </a:cubicBezTo>
                <a:cubicBezTo>
                  <a:pt x="840" y="0"/>
                  <a:pt x="608" y="16"/>
                  <a:pt x="432" y="32"/>
                </a:cubicBezTo>
                <a:cubicBezTo>
                  <a:pt x="256" y="48"/>
                  <a:pt x="88" y="120"/>
                  <a:pt x="0" y="12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4080" y="327672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33cc"/>
                </a:solidFill>
                <a:latin typeface="Arial"/>
              </a:rPr>
              <a:t>A syöttää C: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2:11:48Z</dcterms:created>
  <dc:creator>Timo</dc:creator>
  <dc:description/>
  <dc:language>en-US</dc:language>
  <cp:lastModifiedBy>Timo</cp:lastModifiedBy>
  <dcterms:modified xsi:type="dcterms:W3CDTF">2002-12-16T22:03:04Z</dcterms:modified>
  <cp:revision>10</cp:revision>
  <dc:subject/>
  <dc:title>PowerPoint-esitys</dc:title>
</cp:coreProperties>
</file>